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E1C3-E6B9-4075-97F2-1120D9CBD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3668-5AFA-4EE8-8A79-018358DDA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1428-CA24-4B4E-A3C0-ABFF1EC83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89E7-9046-42C0-B5C5-5FB89B32E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11E41-DEAC-47F3-A412-A4D600969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74560-0469-4040-B0F5-92C0F9C7A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D0C7F-15D7-44DE-8AFC-F1841747F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D5D87-72FD-4DF2-9B04-3D64F5C06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B0C32-4291-4EF0-90C8-9E7771075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9F111-0524-4F1D-9E4B-096592B31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1989E-8820-49CD-8634-78D84C52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560D-A600-4441-975C-87C968E13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74FAE-F8CB-485F-AC7B-537A67B2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6548B-855A-4746-A290-45749298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3745F-CEBC-4CEA-9446-A174DCC2C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E7762-B5EA-40FA-B50A-A6C2D1A6C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4BA7A-8EE4-40B1-A0EF-0137F373E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EA2C-3922-4025-B920-0EEB9F6E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8AA3-70B6-429E-98B4-3AA7AA87C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A2F6-60A9-4AEF-B2F8-8C1D0CD4B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C0B7-2608-46B5-AA0B-415F1A20A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4CE0-CA23-444A-A461-9A9518C0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C15A-89BE-4754-84FA-137ADD37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8A58-B3A6-40C2-AF5F-A2E302C3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1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body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dt" idx="1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5"/>
          <p:cNvSpPr>
            <a:spLocks noGrp="1"/>
          </p:cNvSpPr>
          <p:nvPr>
            <p:ph type="sldNum" idx="3"/>
          </p:nvPr>
        </p:nvSpPr>
        <p:spPr>
          <a:xfrm>
            <a:off x="67053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47162-7AA5-4188-89AD-CA93DFADB91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63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0" y="0"/>
            <a:ext cx="3057480" cy="2057400"/>
            <a:chOff x="0" y="0"/>
            <a:chExt cx="3057480" cy="2057400"/>
          </a:xfrm>
        </p:grpSpPr>
        <p:sp>
          <p:nvSpPr>
            <p:cNvPr id="85" name=""/>
            <p:cNvSpPr/>
            <p:nvPr/>
          </p:nvSpPr>
          <p:spPr>
            <a:xfrm>
              <a:off x="0" y="0"/>
              <a:ext cx="3048120" cy="2057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1440" y="2009880"/>
              <a:ext cx="3052800" cy="47520"/>
              <a:chOff x="1440" y="2009880"/>
              <a:chExt cx="3052800" cy="47520"/>
            </a:xfrm>
          </p:grpSpPr>
          <p:sp>
            <p:nvSpPr>
              <p:cNvPr id="87" name=""/>
              <p:cNvSpPr/>
              <p:nvPr/>
            </p:nvSpPr>
            <p:spPr>
              <a:xfrm>
                <a:off x="1440" y="2009880"/>
                <a:ext cx="3052800" cy="47520"/>
              </a:xfrm>
              <a:prstGeom prst="rect">
                <a:avLst/>
              </a:prstGeom>
              <a:solidFill>
                <a:srgbClr val="b38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36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1608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22440" y="2021040"/>
                <a:ext cx="15372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93024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23660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54296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849320" y="2021040"/>
                <a:ext cx="1540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15748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46384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77020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3014640" y="0"/>
              <a:ext cx="42840" cy="2055960"/>
              <a:chOff x="3014640" y="0"/>
              <a:chExt cx="42840" cy="2055960"/>
            </a:xfrm>
          </p:grpSpPr>
          <p:sp>
            <p:nvSpPr>
              <p:cNvPr id="99" name=""/>
              <p:cNvSpPr/>
              <p:nvPr/>
            </p:nvSpPr>
            <p:spPr>
              <a:xfrm>
                <a:off x="3014640" y="0"/>
                <a:ext cx="42840" cy="2055960"/>
              </a:xfrm>
              <a:prstGeom prst="rect">
                <a:avLst/>
              </a:prstGeom>
              <a:solidFill>
                <a:srgbClr val="b38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016080" y="189720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016080" y="159084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016080" y="128412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016080" y="97776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016080" y="67140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016080" y="36504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016080" y="5868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" name="PlaceHolder 2"/>
          <p:cNvSpPr>
            <a:spLocks noGrp="1"/>
          </p:cNvSpPr>
          <p:nvPr>
            <p:ph type="dt" idx="4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ftr" idx="5"/>
          </p:nvPr>
        </p:nvSpPr>
        <p:spPr>
          <a:xfrm>
            <a:off x="3200400" y="640080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sldNum" idx="6"/>
          </p:nvPr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4ACE2-C2BB-4E19-8EA3-127ABFE0B52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Основы логики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38088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447920" y="2362320"/>
            <a:ext cx="7238880" cy="3962160"/>
          </a:xfrm>
          <a:prstGeom prst="rect">
            <a:avLst/>
          </a:prstGeom>
          <a:solidFill>
            <a:srgbClr val="9d9c81"/>
          </a:solidFill>
          <a:ln cap="sq" w="12600">
            <a:solidFill>
              <a:srgbClr val="000000"/>
            </a:solidFill>
            <a:miter/>
          </a:ln>
          <a:effectLst>
            <a:outerShdw dist="197537" dir="2700000" blurRad="0" rotWithShape="0">
              <a:srgbClr val="614020"/>
            </a:outerShdw>
          </a:effectLst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ведение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 Narrow"/>
              </a:rPr>
              <a:t>Автор: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Сергеев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Евгений Викторович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МОУ СОШ №4 г. Миньяр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Челябинской области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rgeev73@mail.ru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ttp://shk4-minyar.ucoz.ru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Пример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ысказывание: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«Буква «А» – гласная»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истинно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ысказывание: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«Компьютер был изобретен в середине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XIX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 века»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ложно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Сложные высказывания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ростые высказывания могут быть объединены в 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сложные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с помощью союзов «и» или «или», с помощью частицы «не» и др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Истинность высказываний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 Narrow"/>
              </a:rPr>
              <a:t>Простых: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в результате соглашений на основе здравого смысла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 Narrow"/>
              </a:rPr>
              <a:t>Сложных: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в результате вычислений по формулам алгебры высказываний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Упражнение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Какой длины эта лента? 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Прослушайте сообщение!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Делайте утреннюю зарядку!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Назовите устройства ввода/вывода информации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Кто отсутствует?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Париж – столица Англии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Число 11 является простым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4 + 5 = 10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Без труда не вытащишь и рыбку из пруда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Некоторые медведи живут на севере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Все медведи – бурые 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Чему равно расстояние от Москвы до Питера?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Умозаключения 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Умозаключения – это форма мышления, с помощью которой из одного или нескольких высказываний (посылок) может быть получено новое суждение (заключение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осылками могут быть только истинные высказывания, иначе заключение может быть ложным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Пример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Дано высказывание: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«Все углы равнобедренного треугольника равны»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олучить высказывание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«Этот треугольник – равносторонний»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утем умозаключений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Решение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65040" indent="-365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Если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все углы равны, 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то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в качестве основания можно выбрать любую сторону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усть основание – сторона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Тогда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усть основание – сторона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Тогда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Следовательно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. Треугольник равносторонний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Логика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Логика – наука о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формах мышления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, учение о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способах рассуждений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и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доказательств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Логика позволяет строить абстрактные модели реальных объектов, не отвлекаясь на их содержание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Логика, как наука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ервые учения о способах и формах мышления, рассуждений и доказательств зародились на Древнем Востоке (Индия и Китай)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Основоположник современной 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формальной логики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– Аристотель, т.к. он впервые отделил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форму мышления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от его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содержания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Формы мышления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Мышление осуществляется через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понятия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высказывания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(суждения, утверждения) и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умозаключения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Понятие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Понятие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– форма мышления, фиксирующая основные существенные признаки объекта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Имеет две стороны: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содержание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и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объем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01800"/>
                </a:solidFill>
                <a:latin typeface="Arial Narrow"/>
              </a:rPr>
              <a:t>Содержание </a:t>
            </a: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и</a:t>
            </a:r>
            <a:r>
              <a:rPr b="1" i="1" lang="ru-RU" sz="4400" spc="-1" strike="noStrike">
                <a:solidFill>
                  <a:srgbClr val="301800"/>
                </a:solidFill>
                <a:latin typeface="Arial Narrow"/>
              </a:rPr>
              <a:t> объем</a:t>
            </a: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 понятия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Содержание понятия составляет совокупность существенных признаков объекта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Для раскрытия содержания понятия необходимо и достаточно перечислить все качества объекта, по которым его можно однозначно идентифицировать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Объем понятия – количество объектов, на которое распространяются указанные свойства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Пример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Содержание понятия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компьютер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700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Устройство для автоматизированной обработки информации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700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остроено на основе микропроцессора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700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Имеет устройства ввода/вывода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Объем понятия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компьютер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миллиарды единиц компьютерной техники по всему миру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Высказывание 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Форма мышления, выражающая формулировку своего понимания мира, в котором либо что-то утверждается, либо отрицается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Строится на основе понятий и выражается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только повествовательным предложением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Высказывание может быть либо истинным, либо ложным 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Если связь понятий, на которых построено высказывание, правильно отражают свойства и отношения реальных вещей, то такое высказывание истинно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ысказывание, противоречащее реальной действительности – ложное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ргеев Евгений</cp:lastModifiedBy>
  <dcterms:modified xsi:type="dcterms:W3CDTF">2010-09-29T14:50:25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